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wmf" ContentType="image/x-wmf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E024-B7A0-4540-903B-EC3C20342790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4712-564D-4AAC-9284-4C077BF9B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9B41-AB69-459B-AFA8-F7E971B1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2143080" y="693720"/>
            <a:ext cx="25700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440" y="434160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E17-09E3-4DC8-85C6-484B21DE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490-6A66-49BE-A279-4A4EFC27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ED6-D271-4146-ACC5-388DF172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909-F7D5-4CBD-A1C6-AEE15579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1ED-B1B4-42E3-AD2F-E24DA2AC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032-2FBB-44A8-8326-B7FCA264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182-4AB0-4C01-866C-C078118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464-5A49-4183-B46B-8268E800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8F5-5273-4A07-9C16-751C25B0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D18-52F1-41B0-929E-58009708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2AE-8621-4626-BD22-788B2B48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562-ACCC-4106-9CE6-96C07362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9C7C-38AF-4F5B-BE8A-E152B315A1B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981080" y="73080"/>
            <a:ext cx="5119920" cy="6632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NA: Características estructur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REPLICACIÓN del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cepto de mutaciones y mutáge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lujo de la información genética: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ipos de RNA: mensajeros, ribosomales y de trans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RANSCRIPCIÓN: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tapas. Importancia de los procesos de maduración, intrones y ex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RADUCCI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Características generales de la Síntesis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</a:rPr>
              <a:t>Nociones sobre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42920" y="506520"/>
            <a:ext cx="8820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</a:rPr>
              <a:t>Bolilla 12</a:t>
            </a:r>
            <a:r>
              <a:rPr b="1" lang="es-AR" sz="36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://www.comermejor.cl/images/importancia_comercial_alimentos.jpg"/>
          <p:cNvPicPr/>
          <p:nvPr/>
        </p:nvPicPr>
        <p:blipFill>
          <a:blip r:embed="rId1"/>
          <a:stretch/>
        </p:blipFill>
        <p:spPr>
          <a:xfrm>
            <a:off x="-214200" y="3433680"/>
            <a:ext cx="4817880" cy="342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www.ecologistasenaccion.org/local/cache-vignettes/L301xH147/cultivos_omg-eecf6.jpg"/>
          <p:cNvPicPr/>
          <p:nvPr/>
        </p:nvPicPr>
        <p:blipFill>
          <a:blip r:embed="rId2"/>
          <a:stretch/>
        </p:blipFill>
        <p:spPr>
          <a:xfrm>
            <a:off x="4062240" y="0"/>
            <a:ext cx="5081760" cy="2481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http://www.chilebio.cl/images/galerias/situacionglobal02.jpg"/>
          <p:cNvPicPr/>
          <p:nvPr/>
        </p:nvPicPr>
        <p:blipFill>
          <a:blip r:embed="rId3"/>
          <a:stretch/>
        </p:blipFill>
        <p:spPr>
          <a:xfrm>
            <a:off x="4143240" y="2643120"/>
            <a:ext cx="5295960" cy="4214880"/>
          </a:xfrm>
          <a:prstGeom prst="rect">
            <a:avLst/>
          </a:prstGeom>
          <a:ln w="0">
            <a:noFill/>
          </a:ln>
        </p:spPr>
      </p:pic>
      <p:sp>
        <p:nvSpPr>
          <p:cNvPr id="78" name="6 CuadroTexto"/>
          <p:cNvSpPr/>
          <p:nvPr/>
        </p:nvSpPr>
        <p:spPr>
          <a:xfrm>
            <a:off x="21960" y="428760"/>
            <a:ext cx="44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ULTIVOS TRANSGÉ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LIMENTOSTRANSGÉ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Obtención de nuevos productos y alteración de la calidad nutri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empresa Calgene produjo aceites ricos en ácido esteár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e alteró la composición en hidratos de carbono con vistas a la producción de tubérculos de papa, aumento del contenido de almidón y reducción de amil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En el año 2000 se informó la obtención de arroz genéticamente modificado que produce beta- carotenos, precursor de la vitamin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omic Sans MS"/>
              </a:rPr>
              <a:t>Algunas inquietudes que genera </a:t>
            </a:r>
            <a:br>
              <a:rPr sz="2900"/>
            </a:br>
            <a:r>
              <a:rPr b="1" lang="en-US" sz="2900" spc="-1" strike="noStrike">
                <a:solidFill>
                  <a:srgbClr val="c00000"/>
                </a:solidFill>
                <a:latin typeface="Comic Sans MS"/>
              </a:rPr>
              <a:t>la ingeniería genétic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9520" y="128556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2000"/>
          </a:bodyPr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aprehensión instintiva hacia las nuevas tecnolog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desconfianza en l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gencias regulador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dominancia de l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orporaciones multinaciona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amenaza a la biodiversida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638"/>
              </a:spcBef>
              <a:buNone/>
              <a:tabLst>
                <a:tab algn="l" pos="0"/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a competencia con los sistemas de producción  agrícolas alternati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encrypted-tbn0.gstatic.com/images?q=tbn:ANd9GcQCLbJ8C-izYzKgsPWhVmGSW-hbDyU4-6gQ36Qu-JJ3AkgKwEFY"/>
          <p:cNvPicPr/>
          <p:nvPr/>
        </p:nvPicPr>
        <p:blipFill>
          <a:blip r:embed="rId1"/>
          <a:stretch/>
        </p:blipFill>
        <p:spPr>
          <a:xfrm>
            <a:off x="357120" y="857160"/>
            <a:ext cx="2800440" cy="1629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https://encrypted-tbn0.gstatic.com/images?q=tbn:ANd9GcRxuiLeEOSQRTapozKqda44LD6mvLy0taMivx9s7pG8zwh6FwTOGg"/>
          <p:cNvPicPr/>
          <p:nvPr/>
        </p:nvPicPr>
        <p:blipFill>
          <a:blip r:embed="rId2"/>
          <a:stretch/>
        </p:blipFill>
        <p:spPr>
          <a:xfrm>
            <a:off x="285840" y="285768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s://encrypted-tbn2.gstatic.com/images?q=tbn:ANd9GcQc_aYLU1fwvN1frCMsYAHUTqpqFIiwl_wvjKFSWDPOgvAOCTBX"/>
          <p:cNvPicPr/>
          <p:nvPr/>
        </p:nvPicPr>
        <p:blipFill>
          <a:blip r:embed="rId3"/>
          <a:stretch/>
        </p:blipFill>
        <p:spPr>
          <a:xfrm>
            <a:off x="3929040" y="2286000"/>
            <a:ext cx="5483160" cy="2928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s://encrypted-tbn3.gstatic.com/images?q=tbn:ANd9GcRHLSR-JRsU363vuug0mNiEf_o98is6NtBAq-ISmpFRTm0D6AU_"/>
          <p:cNvPicPr/>
          <p:nvPr/>
        </p:nvPicPr>
        <p:blipFill>
          <a:blip r:embed="rId4"/>
          <a:stretch/>
        </p:blipFill>
        <p:spPr>
          <a:xfrm>
            <a:off x="5072040" y="285840"/>
            <a:ext cx="3714840" cy="222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https://encrypted-tbn2.gstatic.com/images?q=tbn:ANd9GcTatt4b0S4OAceyUfdyYeRYfu1vgGpW0A3_GkywjXUewu1I-dgy2w"/>
          <p:cNvPicPr/>
          <p:nvPr/>
        </p:nvPicPr>
        <p:blipFill>
          <a:blip r:embed="rId5"/>
          <a:stretch/>
        </p:blipFill>
        <p:spPr>
          <a:xfrm>
            <a:off x="571680" y="47149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http://www.lamolina.edu.pe/cirgebb/images/ima-Sabes-Tansgenicos.jpg"/>
          <p:cNvPicPr/>
          <p:nvPr/>
        </p:nvPicPr>
        <p:blipFill>
          <a:blip r:embed="rId6"/>
          <a:stretch/>
        </p:blipFill>
        <p:spPr>
          <a:xfrm>
            <a:off x="3857760" y="4821120"/>
            <a:ext cx="3643200" cy="2036880"/>
          </a:xfrm>
          <a:prstGeom prst="rect">
            <a:avLst/>
          </a:prstGeom>
          <a:ln w="0">
            <a:noFill/>
          </a:ln>
        </p:spPr>
      </p:pic>
      <p:sp>
        <p:nvSpPr>
          <p:cNvPr id="91" name="10 CuadroTexto"/>
          <p:cNvSpPr/>
          <p:nvPr/>
        </p:nvSpPr>
        <p:spPr>
          <a:xfrm>
            <a:off x="240120" y="285840"/>
            <a:ext cx="34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LIMENTOS TRANSGÉ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3.bp.blogspot.com/_1FVF-EZQU14/SZtFFVskvpI/AAAAAAAAKlc/OFsN6fxpQZ0/s320/soja%2520transgenica%252004.jpg"/>
          <p:cNvPicPr/>
          <p:nvPr/>
        </p:nvPicPr>
        <p:blipFill>
          <a:blip r:embed="rId1"/>
          <a:stretch/>
        </p:blipFill>
        <p:spPr>
          <a:xfrm>
            <a:off x="3500280" y="0"/>
            <a:ext cx="2057400" cy="17049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http://www.pararelmundo.com/wp-content/uploads/2012/04/soja-transgenica-argentina.jpg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490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s://encrypted-tbn0.gstatic.com/images?q=tbn:ANd9GcSdtg9OTd3MCtuAN8p30zqIIeS4tv6_zPJrYSwMm3u-aEsVcK-I"/>
          <p:cNvPicPr/>
          <p:nvPr/>
        </p:nvPicPr>
        <p:blipFill>
          <a:blip r:embed="rId3"/>
          <a:stretch/>
        </p:blipFill>
        <p:spPr>
          <a:xfrm>
            <a:off x="5500800" y="4714920"/>
            <a:ext cx="416700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www.arbore.org/system/files/u1/monsanto_0.jpg"/>
          <p:cNvPicPr/>
          <p:nvPr/>
        </p:nvPicPr>
        <p:blipFill>
          <a:blip r:embed="rId4"/>
          <a:stretch/>
        </p:blipFill>
        <p:spPr>
          <a:xfrm>
            <a:off x="357120" y="4944960"/>
            <a:ext cx="1533600" cy="191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noticiasdeabajo.files.wordpress.com/2012/03/efectos-negativos-del-herbicida-glifosato.jpg"/>
          <p:cNvPicPr/>
          <p:nvPr/>
        </p:nvPicPr>
        <p:blipFill>
          <a:blip r:embed="rId5"/>
          <a:stretch/>
        </p:blipFill>
        <p:spPr>
          <a:xfrm>
            <a:off x="6632640" y="2643120"/>
            <a:ext cx="286848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http://www.fyo.com/especiales/soja13-14/sitefiles/img/grafMapa15.jpg"/>
          <p:cNvPicPr/>
          <p:nvPr/>
        </p:nvPicPr>
        <p:blipFill>
          <a:blip r:embed="rId6"/>
          <a:stretch/>
        </p:blipFill>
        <p:spPr>
          <a:xfrm>
            <a:off x="146160" y="1714680"/>
            <a:ext cx="33922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https://encrypted-tbn3.gstatic.com/images?q=tbn:ANd9GcT3wrRB1tc9KgdcmghjP-U49n5ssN390bOytO67dVC8XXzCv70-Tg"/>
          <p:cNvPicPr/>
          <p:nvPr/>
        </p:nvPicPr>
        <p:blipFill>
          <a:blip r:embed="rId7"/>
          <a:stretch/>
        </p:blipFill>
        <p:spPr>
          <a:xfrm>
            <a:off x="2286000" y="4813200"/>
            <a:ext cx="3071880" cy="2044800"/>
          </a:xfrm>
          <a:prstGeom prst="rect">
            <a:avLst/>
          </a:prstGeom>
          <a:ln w="0">
            <a:noFill/>
          </a:ln>
        </p:spPr>
      </p:pic>
      <p:sp>
        <p:nvSpPr>
          <p:cNvPr id="101" name="10 CuadroTexto"/>
          <p:cNvSpPr/>
          <p:nvPr/>
        </p:nvSpPr>
        <p:spPr>
          <a:xfrm>
            <a:off x="846720" y="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PROBLE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COLAT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-96840" y="1000080"/>
            <a:ext cx="37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Monocultivos – Disminu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la diversidad 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CuadroTexto"/>
          <p:cNvSpPr/>
          <p:nvPr/>
        </p:nvSpPr>
        <p:spPr>
          <a:xfrm>
            <a:off x="1264320" y="485784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Monopolios en venta de sem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3 CuadroTexto"/>
          <p:cNvSpPr/>
          <p:nvPr/>
        </p:nvSpPr>
        <p:spPr>
          <a:xfrm>
            <a:off x="4029840" y="2500200"/>
            <a:ext cx="34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Gran renta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scasos contro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en fumigación de pest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Deforestación ma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Falta de legislaci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la sust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4 CuadroTexto"/>
          <p:cNvSpPr/>
          <p:nvPr/>
        </p:nvSpPr>
        <p:spPr>
          <a:xfrm>
            <a:off x="14400" y="4429080"/>
            <a:ext cx="46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Soja transgénica-Resistente a Glifos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http://www.sott.net/image/s3/64327/full/nuevo_44.png"/>
          <p:cNvPicPr/>
          <p:nvPr/>
        </p:nvPicPr>
        <p:blipFill>
          <a:blip r:embed="rId1"/>
          <a:stretch/>
        </p:blipFill>
        <p:spPr>
          <a:xfrm>
            <a:off x="214200" y="3714840"/>
            <a:ext cx="1940040" cy="314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http://3.bp.blogspot.com/-3buZ-5BxECA/UKEFx9hZRGI/AAAAAAAAIr4/HncduUQ_CQ0/s1600/soja+mut.jpg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243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s://encrypted-tbn3.gstatic.com/images?q=tbn:ANd9GcTcOR8BElfwvvhkngldyY_s8mQqcCrM3vJS7O-T2J-m6WVoBxOjJw"/>
          <p:cNvPicPr/>
          <p:nvPr/>
        </p:nvPicPr>
        <p:blipFill>
          <a:blip r:embed="rId3"/>
          <a:stretch/>
        </p:blipFill>
        <p:spPr>
          <a:xfrm>
            <a:off x="0" y="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s://encrypted-tbn2.gstatic.com/images?q=tbn:ANd9GcRYvHlMFc4SSE8hxN6KVRrRYLQmRXno2OA3p3Druoh98kvnmEpL"/>
          <p:cNvPicPr/>
          <p:nvPr/>
        </p:nvPicPr>
        <p:blipFill>
          <a:blip r:embed="rId4"/>
          <a:stretch/>
        </p:blipFill>
        <p:spPr>
          <a:xfrm>
            <a:off x="6429240" y="4618080"/>
            <a:ext cx="2462400" cy="223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https://encrypted-tbn2.gstatic.com/images?q=tbn:ANd9GcRhEdr_K-_NXrurif1ikC8qpuoqbqKZvsAluFQfY1Fwq0yhsBbDJQ"/>
          <p:cNvPicPr/>
          <p:nvPr/>
        </p:nvPicPr>
        <p:blipFill>
          <a:blip r:embed="rId5"/>
          <a:stretch/>
        </p:blipFill>
        <p:spPr>
          <a:xfrm>
            <a:off x="428616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https://encrypted-tbn2.gstatic.com/images?q=tbn:ANd9GcTypS-ISclAGOzo0yxEpmtGOuR5r1KFuj5QfEMirnYgqlGFEf3Vgg"/>
          <p:cNvPicPr/>
          <p:nvPr/>
        </p:nvPicPr>
        <p:blipFill>
          <a:blip r:embed="rId6"/>
          <a:stretch/>
        </p:blipFill>
        <p:spPr>
          <a:xfrm>
            <a:off x="1071720" y="2214720"/>
            <a:ext cx="3698640" cy="207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https://encrypted-tbn0.gstatic.com/images?q=tbn:ANd9GcSAyhTOgaq1m54yaiF8e5pDWrLiLs-b4whCC-W_BUD2MrNyS_ftkg"/>
          <p:cNvPicPr/>
          <p:nvPr/>
        </p:nvPicPr>
        <p:blipFill>
          <a:blip r:embed="rId7"/>
          <a:stretch/>
        </p:blipFill>
        <p:spPr>
          <a:xfrm>
            <a:off x="2130480" y="4357800"/>
            <a:ext cx="372744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8"/>
          <a:stretch/>
        </p:blipFill>
        <p:spPr>
          <a:xfrm>
            <a:off x="5643720" y="2571840"/>
            <a:ext cx="2857320" cy="1896840"/>
          </a:xfrm>
          <a:prstGeom prst="rect">
            <a:avLst/>
          </a:prstGeom>
          <a:ln w="0">
            <a:noFill/>
          </a:ln>
        </p:spPr>
      </p:pic>
      <p:sp>
        <p:nvSpPr>
          <p:cNvPr id="119" name="15 CuadroTexto"/>
          <p:cNvSpPr/>
          <p:nvPr/>
        </p:nvSpPr>
        <p:spPr>
          <a:xfrm>
            <a:off x="1703520" y="1425600"/>
            <a:ext cx="31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Mientras se ana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los riesgos sanitarios…..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olca.cl/txt/images/1342390801"/>
          <p:cNvPicPr/>
          <p:nvPr/>
        </p:nvPicPr>
        <p:blipFill>
          <a:blip r:embed="rId1"/>
          <a:stretch/>
        </p:blipFill>
        <p:spPr>
          <a:xfrm>
            <a:off x="378612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s://encrypted-tbn1.gstatic.com/images?q=tbn:ANd9GcQQ3wY4kOqUB5vj0ixEzYYQsZTK78ZNsZYdW8XJVUdtGlgqjeWW"/>
          <p:cNvPicPr/>
          <p:nvPr/>
        </p:nvPicPr>
        <p:blipFill>
          <a:blip r:embed="rId2"/>
          <a:stretch/>
        </p:blipFill>
        <p:spPr>
          <a:xfrm>
            <a:off x="201600" y="357120"/>
            <a:ext cx="3516480" cy="3500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monsantostop.files.wordpress.com/2013/05/cropped-transgenicos.jpg"/>
          <p:cNvPicPr/>
          <p:nvPr/>
        </p:nvPicPr>
        <p:blipFill>
          <a:blip r:embed="rId3"/>
          <a:stretch/>
        </p:blipFill>
        <p:spPr>
          <a:xfrm>
            <a:off x="857160" y="3948120"/>
            <a:ext cx="79250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ttp://www.educagratis.org/moodle/file.php/10/transgenicos-ii.jpg"/>
          <p:cNvPicPr/>
          <p:nvPr/>
        </p:nvPicPr>
        <p:blipFill>
          <a:blip r:embed="rId1"/>
          <a:stretch/>
        </p:blipFill>
        <p:spPr>
          <a:xfrm>
            <a:off x="4902120" y="3500280"/>
            <a:ext cx="4241880" cy="314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www.tugentelatina.com/media/images/ImageManager/428/0000000004abriljueves/PAREDES/Cohousing/transge/postres-transgenicos.jpg"/>
          <p:cNvPicPr/>
          <p:nvPr/>
        </p:nvPicPr>
        <p:blipFill>
          <a:blip r:embed="rId2"/>
          <a:stretch/>
        </p:blipFill>
        <p:spPr>
          <a:xfrm>
            <a:off x="-71280" y="3071880"/>
            <a:ext cx="5047920" cy="3786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1.bp.blogspot.com/-2E0YCucXozI/TgUojCKZLWI/AAAAAAAAACM/Ao2p0V-5DWw/s320/simpsons-melon.jpg"/>
          <p:cNvPicPr/>
          <p:nvPr/>
        </p:nvPicPr>
        <p:blipFill>
          <a:blip r:embed="rId3"/>
          <a:stretch/>
        </p:blipFill>
        <p:spPr>
          <a:xfrm>
            <a:off x="5500800" y="285840"/>
            <a:ext cx="400032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www.xn--telaraadigital-vnb.com.ar/fotos/634908113305461800_soja2.jpg"/>
          <p:cNvPicPr/>
          <p:nvPr/>
        </p:nvPicPr>
        <p:blipFill>
          <a:blip r:embed="rId4"/>
          <a:stretch/>
        </p:blipFill>
        <p:spPr>
          <a:xfrm>
            <a:off x="-214200" y="-214200"/>
            <a:ext cx="5715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357120" y="1392120"/>
            <a:ext cx="8072640" cy="3446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omic Sans MS"/>
              </a:rPr>
              <a:t>Seguridad y control de los transgénicos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Organización 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Greenpeac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, una de las opositoras a los transgénicos, reconoce en su sitio web que no se opone a la biotecnología controlada, pero afirm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los riesgos sanitarios a largo plazo de los OGM no se están evaluando correctamente y su alcance sigue siendo desconocid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1 Rectángulo"/>
          <p:cNvSpPr/>
          <p:nvPr/>
        </p:nvSpPr>
        <p:spPr>
          <a:xfrm>
            <a:off x="500040" y="214200"/>
            <a:ext cx="8143920" cy="667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omic Sans MS"/>
              </a:rPr>
              <a:t>Seguridad y control de los transgénico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la Argentina existen en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Ministerio de Agricultura, Ganadería, Pesca y Alimentación 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res comisiones que evalúan los cultivos transgén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la Comisión de Biotecnología del 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SENASA -Servicio Nacional de Sanidad y Calidad Agroalimentari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estudia la bioseguridad alimentaria de los cultivos o sus subproduct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la 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ONABIA -Comisión Nacional Asesora de Biotecnología Agropecuari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- analiza los posibles impactos ambientales del cultivo, y la Dirección de Mercados evalúa los efectos de su comerci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mit.zenfs.com/204/2013/08/Mientras-la-poblacion-crece-las-zonas-de-cultivo-disminuyen.jpg"/>
          <p:cNvPicPr/>
          <p:nvPr/>
        </p:nvPicPr>
        <p:blipFill>
          <a:blip r:embed="rId1"/>
          <a:stretch/>
        </p:blipFill>
        <p:spPr>
          <a:xfrm>
            <a:off x="-39600" y="1285920"/>
            <a:ext cx="9183600" cy="4243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5734080"/>
            <a:ext cx="91454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ia 2025 será necesario alimentar a 2.000 millones de personas 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en 800 millones de personas desnutridas; de acuerdo con las 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85359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es esta cifra podría disminuir a 200 millones hacia 20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924120" y="357120"/>
            <a:ext cx="6886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Problema mundial acuc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¿Cómo alimentaremos a la pobl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1 Rectángulo"/>
          <p:cNvSpPr/>
          <p:nvPr/>
        </p:nvSpPr>
        <p:spPr>
          <a:xfrm>
            <a:off x="357120" y="71280"/>
            <a:ext cx="8572680" cy="667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omic Sans MS"/>
              </a:rPr>
              <a:t>Seguridad y control de los transgénico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-Consejo Argentino para el Desarrollo y la Información de la Biotecnología –ArgenBio- 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clara qu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los organismos modificados por técnicas de ingeniería genética atraviesan exhaustivos controles en su naturaleza e inocuidad. De tal forma que los cultivos transgénicos autorizados para su comercialización producen alimentos seguros para el consumo humano y animal”.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Rectángulo"/>
          <p:cNvSpPr/>
          <p:nvPr/>
        </p:nvSpPr>
        <p:spPr>
          <a:xfrm>
            <a:off x="1000080" y="1357200"/>
            <a:ext cx="7215120" cy="39333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Otro de los </a:t>
            </a:r>
            <a:r>
              <a:rPr b="0" lang="es-AR" sz="2800" spc="-1" strike="noStrike">
                <a:solidFill>
                  <a:srgbClr val="c00000"/>
                </a:solidFill>
                <a:latin typeface="Arial"/>
              </a:rPr>
              <a:t>argumentos a favor de la seguridad alimentaria de los productos transgénicos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viene del historial de us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espués de muchos años de consumo por millones de personas en el mundo, no se ha detectado ningún caso de efecto adverso para la salud human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Cassava"/>
          <p:cNvPicPr/>
          <p:nvPr/>
        </p:nvPicPr>
        <p:blipFill>
          <a:blip r:embed="rId1"/>
          <a:stretch/>
        </p:blipFill>
        <p:spPr>
          <a:xfrm>
            <a:off x="5410080" y="3200400"/>
            <a:ext cx="3505320" cy="245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1280" y="146376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deficiencia de vitamina A afecta a 250 millones de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y causa la ceguera de 500.000 niños por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deficiencia de lisina reduce el valor nutricional de los granos de ce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ingesta de glicoalcaloides en las comun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dinas provoca desórdenes alimen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deficiencias en hierro, iodo y zinc debilitan a muj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mbarazadas y a niños y afectan a 2.000 millones de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1280" y="71280"/>
            <a:ext cx="8915400" cy="1267560"/>
          </a:xfrm>
          <a:prstGeom prst="rect">
            <a:avLst/>
          </a:prstGeom>
          <a:solidFill>
            <a:srgbClr val="7dc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Las necesidades nutricionales no están debidamente cubiertas cuando la dieta se basa en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alimento mayoritario (único cul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151920"/>
            <a:ext cx="8929800" cy="706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Organismos Genéticamente Modificados (OGMs) </a:t>
            </a: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son parte de la solució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533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Objetivos de los OG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Aumentar la producc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Introducir resistencia a pestes y enferme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Introducir tolerancia a temperaturas y sequí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xpandir la producción a suelos margin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Aumentar la calidad nutri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Compensar deficiencias en vitaminas y micronutr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liminar compuestos tóxicos: cianuros, glicoalcaloid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Disminuir la degradación del medio amb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Introducir caracteres genéticos que requieran baja o mejor utilización de insumos    quím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Promover aplicaciones en biorremed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Organismos Genéticamente Modificados (OG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OGM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s u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n organism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(vegetal, animal, microorganismo o virus) en el cual se ha introducido información genétic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recisa y definid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en forma deliberad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y dirigida a obtener un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determinado fen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 introducción de dicha información genética no podría haber sido adquirida por ese organismo por si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OGMs = ALIMENTOS TRANGÉN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182880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sólo se requieren más aliment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ino también mejore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971800" y="3962520"/>
            <a:ext cx="304812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Técnica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NA recomb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57200" y="3924360"/>
            <a:ext cx="1905120" cy="1219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INGENIE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E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629400" y="4267080"/>
            <a:ext cx="1752480" cy="398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RANS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7115040" y="500076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338800" y="59436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en extraño presente en el DNA de un org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omic Sans MS"/>
              </a:rPr>
              <a:t>Otras denominaciones..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13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43080" indent="0">
              <a:lnSpc>
                <a:spcPct val="80000"/>
              </a:lnSpc>
              <a:spcBef>
                <a:spcPts val="363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 biotecnológ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 transgénic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 genéticamente modific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Bioproduc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s modificados por ingeniería gené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s recombin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limento obtenido mediante biotecn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Copperplate Gothic Light"/>
              </a:rPr>
              <a:t>Franken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309600"/>
                <a:tab algn="l" pos="412920"/>
                <a:tab algn="l" pos="826920"/>
                <a:tab algn="l" pos="1241280"/>
                <a:tab algn="l" pos="1657440"/>
                <a:tab algn="l" pos="2071800"/>
                <a:tab algn="l" pos="2486160"/>
                <a:tab algn="l" pos="2900520"/>
                <a:tab algn="l" pos="3316320"/>
                <a:tab algn="l" pos="3730680"/>
                <a:tab algn="l" pos="4145040"/>
                <a:tab algn="l" pos="4559400"/>
                <a:tab algn="l" pos="4975200"/>
                <a:tab algn="l" pos="5389560"/>
                <a:tab algn="l" pos="5803920"/>
                <a:tab algn="l" pos="6218280"/>
                <a:tab algn="l" pos="6634080"/>
                <a:tab algn="l" pos="7048440"/>
                <a:tab algn="l" pos="7462800"/>
                <a:tab algn="l" pos="787716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c00000"/>
                </a:solidFill>
                <a:latin typeface="Calibri"/>
              </a:rPr>
              <a:t>Tolerancia a herbicid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Esta modalidad engloba a la mayor parte de las plantas transgénicas act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Ejemplos: maíz, eucalipto, soja, caña de azú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Calibri"/>
              </a:rPr>
              <a:t>Un ejemplo cotidiano es la Soja Roundup Re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23:04:53Z</dcterms:created>
  <dc:creator>ali y facu</dc:creator>
  <dc:description/>
  <dc:language>en-US</dc:language>
  <cp:lastModifiedBy>ali y facu</cp:lastModifiedBy>
  <dcterms:modified xsi:type="dcterms:W3CDTF">2014-12-09T15:53:47Z</dcterms:modified>
  <cp:revision>31</cp:revision>
  <dc:subject/>
  <dc:title>Diapositiva 1</dc:title>
</cp:coreProperties>
</file>